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253-5C23-460D-8CAC-1652FDEB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A2F-F2A3-488B-A8CA-9EDA0B1D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E44-0462-4F3E-B5F6-32129BB5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12D-B3F8-4DE5-8065-7A6FE17C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D4E-48F2-4D45-A56B-1EF14972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456-8B89-4F4E-9BD0-C71F638F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B12-CAB5-4C9E-8046-8F2E6DE2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CA9-70AF-4AC7-B1D0-9AEF5085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EB7-DD12-4B84-9019-096FBA44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1A9-C5AE-4CF4-852D-073A1B9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AC2-0817-447C-803D-81E9466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CD8-29AA-4792-AEBE-5787CE1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4C2C-B640-4C74-A0F6-6803A62F4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2160" y="515880"/>
            <a:ext cx="7846920" cy="618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333399"/>
                </a:solidFill>
                <a:latin typeface="Bookman Old Style"/>
              </a:rPr>
              <a:t>60</a:t>
            </a:r>
            <a:r>
              <a:rPr b="1" lang="bg-BG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следник на царство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още ли спиш?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ак можеш да дремеш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тез времена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ъбуди се прилеж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 работиш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о волята на Изкупите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86040"/>
            <a:ext cx="9112320" cy="7103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следник на царствот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готов ли си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рона слав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 носиш и ти?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върд стой против греховет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помни с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ак Господ стра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в край побед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иж как човеци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гинат без Бог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ез вяра в Словот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наший Спас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о ще се стреснат 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коро в тревог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га Го вид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ъв слава и власт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8:57:12Z</dcterms:created>
  <dc:creator>TrifonTrifonow</dc:creator>
  <dc:description/>
  <dc:language>en-US</dc:language>
  <cp:lastModifiedBy>TrifonTrifonow</cp:lastModifiedBy>
  <dcterms:modified xsi:type="dcterms:W3CDTF">2005-11-22T07:24:07Z</dcterms:modified>
  <cp:revision>7</cp:revision>
  <dc:subject/>
  <dc:title>Slide 1</dc:title>
</cp:coreProperties>
</file>